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A1F-4173-4BD2-AD18-13199867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53E-4F57-4BC0-9A01-A6535B22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7D3EA-DFD4-440F-89C2-7912944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E948-1E95-4977-982D-E72E87A2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39FA1-60E7-44A7-95ED-2D6C8D3D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8F70F-DD89-4131-8114-EFF573D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86108-AAA3-4F6F-8418-DB1115FF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421A4-8123-4AEC-B104-E6522EE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3F003-D24C-4B12-94CD-33534698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CA46-AB2E-40BC-8B8F-77C39451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80613-43AB-4F28-9B3F-A75D85D9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6F817-0975-4A06-B5F7-4DC47D3F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FE0-FB07-426E-AEB4-F393F61F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99A58-6B4C-4F43-85EA-720C88CB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09199-7BE7-48CD-A802-1AFBB66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2AF85-05EC-49A6-91C8-40958F6C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284A-5A07-4BF7-B8BA-C6D6E42B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E33F-A3D0-4E2B-9F60-709EF248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2EDAE-D031-4D2D-A086-56BFAE9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2609F-A2AA-403E-AD7A-540CC28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7670-3A35-40B6-9FD3-28562BFD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E7DC7-DDD8-4ED7-A1B3-759ACF25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2ABD0-1422-4E67-B0D7-229602A6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F7D-2646-4CBF-A792-0989E62B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A3392-29F3-422E-9725-C48BFE35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959B35-3635-4C69-95D7-BE04426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77886A-52CB-4584-93A4-A897FC3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838E3A-15FF-4E9B-BB82-92FD2168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BAEA50-3385-4523-B107-ACDAD52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154D13-9D90-4A3D-BD96-A6DE812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A3096C-7E27-4687-B4A0-E685A6C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F19DE1-D7BE-48BC-82A0-71DAD80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8D641D-93E8-41D6-B87B-9B972B17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0E8482-71BB-40CA-8A72-5477324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E4E8-02BD-4AC6-B4E5-F649F57E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A48A9-D412-4578-A964-5E42C70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CBB7C2-A787-4B17-8112-CD29C9F9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ECC8B4-8321-45C4-B1A6-BF7FE56B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0F8FF-256B-4AF9-8F82-24BA557F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3E300-8063-4EDE-9EF2-7C39D97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105DE-60FA-4242-AA95-4233F8BD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B6BE9-ACF6-40CF-8A4C-C43C5F1C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63B41-AB62-4ADF-81F4-8AF3FC5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C52D-A307-4F9A-8AB3-BF466D4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78C77-AEE8-41A0-B016-54F548C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9906-F2BA-419C-9DB6-C92B97C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9A390-274E-4524-96A2-B8398A1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FBF97-38A1-415B-BA14-A741FBC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706D5-3AA9-4E63-A421-85C4BB4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113AB-7650-4ED6-9C92-A3D30989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800D-9C43-429A-B480-E997FF5A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077B-2442-4EF7-88E4-5CAE822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3F8-1765-4C38-94AD-81536F51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897-32BC-46E1-86FF-2BA173A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6005-F05A-4C19-B7C4-7DB5745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B39-39DE-4973-BBE8-BA464B7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64B-1B86-4359-BF8C-533A8EF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1D0-0261-46DA-9C30-508A34CE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60F2-F24E-467E-B340-994A308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8B81-88F4-4F75-B43D-5BBAF43D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5100-03F9-44F4-92B8-C41B805E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923D-1808-406A-8CD8-52540D0F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FF84-E3CA-4741-A26D-3707AF77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3A15-19BA-4BC0-9C0F-68886C11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EBF4-6012-48B6-A4C8-2DE5E5CB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9294-2CA1-4351-8667-A37D5FE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49F9-38BD-46E3-B156-0D7E1EE0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993-55E2-447A-A8A4-3E91878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649C-6E20-482B-A006-B8D50F2D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3B2F-286E-434C-92CA-F2DB1D6C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EDE6-8B17-4623-9372-D987D43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F1154-11BC-4C3E-918B-02094AE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A68A-E252-479D-BFD9-7A0265C9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8691-78F6-43DF-9F97-2AF7FC3A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87C8-5BF3-4E03-B8B6-261F3D31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0754-0714-4C6E-8FBB-7D72C920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FADE-6B0D-4E10-8397-B79784D2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73B5-2FC4-4279-B96D-D98631B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057-2CC1-4CBB-B098-FE0EBA9B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9E84D-56A8-4D56-A4D1-AE78D30D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0387-B1C2-4F20-A88D-CFA94AB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70DA-9B4A-43D7-BAEE-3D8BA6B3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876D-679B-4268-A398-AFD3F047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8053-A05D-48E9-B904-9C552F53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BDF8-4917-4C9C-8F8E-22D3757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8977-238F-45DD-9508-C12BD4A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51BA-74C3-4CD4-8A8C-20543965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D052-D350-4C10-A158-E433CF27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BBC62-5E71-4497-B5BE-55D275FA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590-DDEC-484D-80A2-3D968E6E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6271-F716-4B7C-AA3A-CD6EF3D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FB6B-2383-459C-B3E8-7A0C1DE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5282-3FE2-4B5A-BAE8-786BF7C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441F-64E6-470C-84DB-75CBA47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2BD40-3200-4008-B15A-354EB59E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DD6B-B5F2-460D-A38C-0AE2EC0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1F0D-D7B3-454C-8953-947707C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65C03-CB9F-42F6-A87B-B09C93A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40ECD-1EE7-4AA5-85EE-D732EBA5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31EAB-E61C-426D-AB6A-06402735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F9C-6F80-4569-B28F-CFEEE1FA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8467-7BDA-4B93-8B7B-BDE06ABD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97D1B-7139-425A-8D48-C2A55342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1F2E4-D4CF-4C5F-A221-D7FE77A7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2023F-EF3A-49F8-91C4-C4452B82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CD348-1479-4F3C-B88F-CB6976FD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3F260-224C-45ED-9D99-3F9831FC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945B9-4BAE-44EC-AE32-6920E173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62F7D-7B75-4858-8897-757631B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CE417-EA7C-4C50-8562-1D16265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F5CE0-8FCB-40F3-AA55-67030F1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D73-C603-4FC8-AA94-E2A5713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AAEF7-E23A-4B93-A00C-C3256866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2EFB0F-2539-4A79-9DEB-2BABE75E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DB117-47FF-4FF2-AFD4-7CC4A019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035C5-2430-42CD-93FF-77C1FC35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8B93A-0540-4FC8-A066-F07B781C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7842-793C-44BF-847E-F1E8956A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056E7-9BD1-460A-AF37-93080DF5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B11D-9662-4372-B903-59291C8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B46A-6258-42D4-8AAE-D632166C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BDC8-8003-48C3-857B-E36A016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1FF-862F-4533-A025-AEACC40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EA92D-3CA0-4597-BFEB-0E83059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A658-DD21-450D-967C-39238AA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DDAC-D4A2-4A79-B0B7-E1CD188E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086D-6F3A-4177-B6B9-BAEB73C8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D5A6-47BF-4432-A57B-B747DDF4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228C8-962E-46C6-83B2-F863501C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FCF16-EE26-4BAA-85C5-8DBBD0A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EBE3A-8274-4BCA-8BFE-7FBE40C2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C6C0A-ABDC-4E35-8576-0E7A4A1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26F8-D374-447A-9C6A-0121F5D1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8D9-95AC-4F66-80C3-217BD8BB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C1E9F-7397-4232-B3CD-59DACE2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B490F-7DE1-4DDB-AE21-3B8FEE5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7B5A0-20F1-431F-BCEC-54BB346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751E4-2ADC-4295-A1EE-8E5E6DC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0060-A665-40E8-9BFF-C4F5B7D7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A7033-2C43-450B-96C1-35AEBE04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0B8C-F638-4480-8F5E-0C61EAE1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9C3D9-F836-47F9-A4B8-C81DB2FB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AB745-69E6-4393-B770-7D42AAB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99880-E563-4401-8DB9-015E66E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7D04-6B48-4361-BA0C-E101100CF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222-1023-4D69-8853-22C5B9493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1A39-A035-405E-9C3E-A0D83DD082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7BEA-C0D2-4280-A290-6DBDFDF46E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6A3-D89D-4623-BAEB-39DB52DBD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C5E-7423-46D1-8458-680B6D17E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E0AB-96E7-4E3F-AB89-A9B5C5E74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6BA1-14F7-4215-8DE0-6E9F1978B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D6FE-FAB3-4249-91D3-986AA915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8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745-162B-42CF-A5A7-919258D5DB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2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EA7-4D38-4435-B60C-15BB1E18B7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008-1C5B-46F3-B3B5-7CA68476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ravlang.com/blog/wp-content/uploads/2010/04/dubai-mall-330x440-jp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u="sng">
                <a:solidFill>
                  <a:srgbClr val="e5ffff"/>
                </a:solidFill>
                <a:uFillTx/>
                <a:latin typeface="Tahoma"/>
              </a:rPr>
              <a:t>Mi viaje a Havana, Cuba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unter M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3"/>
          <a:stretch/>
        </p:blipFill>
        <p:spPr>
          <a:xfrm>
            <a:off x="2209680" y="4572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3047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eec94"/>
                </a:solidFill>
                <a:latin typeface="Times New Roman"/>
              </a:rPr>
              <a:t>El primer día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048120" cy="22194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1523880" y="4191120"/>
            <a:ext cx="632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oy llegué a Havana, Cuba. Mi hotel 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 Caribe Hotel Havana Riviera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hotel es grande, y muy bonito. Tiene una piscina. Esta en la playa. Tiene muchas actividades; Buc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é en el agua, jugar al golf, y na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é en la piscina. En Cuba es hace sol. El sol brilla mucho. Necisito los gafas de sol, y un traje de ba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͠͠͠n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a playa es muy grande, y muy bonito. La comida en el hotel es delici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57200" y="25146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 Caribe Hotel Havana Riv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Segundo D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676160" y="4571640"/>
            <a:ext cx="6019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playa es muy grande, y muy bonito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arena es increíble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Las olas son grandes. Nad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en el agua. Fui surfing a la tabla hawaiiana. No, no esqui de agua. Jugar al tenis a la hotel. Yo fui a la restuarante delicioso. Yo compro una hamburguesa, y los papas fritas, a la hotel. Jugar al tenis en el hotel, con mi amig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105520" cy="220176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7621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pl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Tres 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y, fui a la tienda en Havana, Cuba. Es muy popular, y muy grande. Hay muchas tiendas. Yo compro los gafas de sol, el traje de bano, y los sombrero para mis padres. No, no compro un camisa. Yo fui a la resturaunte muy bien. Yo compro un pescado, y pollo. Es muy delicioso. 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spués de golf, fui a mi hotel para nadar. Luego me fui a dormi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362320"/>
            <a:ext cx="2681280" cy="2895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647712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t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tro D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90720" y="48769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oy en día, me fui a jugar al golf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 de Havana, Cuba. Es muy bonito, y muy dificil porque de agua.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ugué muy bien. Pero, muy ocupado. Después de golf, compré el almuerzo en el campo de golf. Yo compro un sandwich. Después, fui a mi hotel para nad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la pisc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819520" cy="18111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1981080" cy="187164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3"/>
          <a:stretch/>
        </p:blipFill>
        <p:spPr>
          <a:xfrm>
            <a:off x="3657600" y="3124080"/>
            <a:ext cx="2438280" cy="14302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8380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campo de g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Final D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35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el final día, me paso el día en el museo de las artes. Es muy bonito, y muy interesante. Pero, muy ocupado. Yo compro una camisa. La camisa tengo los modernas formas. Mi viaje fue excel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38640" cy="29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5:16Z</dcterms:created>
  <dc:creator>moranhun</dc:creator>
  <dc:description/>
  <dc:language>en-US</dc:language>
  <cp:lastModifiedBy>moranhun</cp:lastModifiedBy>
  <dcterms:modified xsi:type="dcterms:W3CDTF">2011-11-30T16:55:25Z</dcterms:modified>
  <cp:revision>11</cp:revision>
  <dc:subject/>
  <dc:title>Mi viaje a Habana, Cuba</dc:title>
</cp:coreProperties>
</file>